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B104-4E4C-4ACD-BBD6-65F1FA43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B64-B404-4582-A1A8-EE4EC445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9947-4AD8-4C5E-83D5-62861339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4E3-A0B7-4DE2-B654-FF219F91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4CF96-569D-44CD-BA9C-D0CE4922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282D9-6874-40EE-A538-619B7E81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767F9-5B3F-4E03-A769-62DE662C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D1C42-C9A3-4723-9D55-32091325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5C358-7379-4F02-A349-CC14A1C6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F5FF6-8AC0-4A9C-9779-782CC21B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0AEA5-296F-4699-B227-0602CF60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3E0D-A529-4DB0-83D9-B176B42E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65EE7-FC54-4836-ACB8-A8046313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80324-BE96-40F6-9EEC-5AD04447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F2066-BD15-4F0C-BD50-C5D94BD7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BCA17-0BEA-4A92-9BA5-0A024EF1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BC53E-E81D-4C33-A883-0A73F83B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3F52-A9D3-42B3-AA94-02A02B0F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9B4-8700-4B27-B32B-CEC66F96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9654-1380-4C50-91EC-BC1052C8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DF10-7415-450F-84E2-31036FC6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CC7-5A1C-40BA-82AC-63B5E7A1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F86-07E0-4EB8-B866-7552AC33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CE69-5F1F-4C80-9DA2-21112165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1130-1965-4829-9259-C4C49093BEC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B9D7-BA6E-4F31-88F4-46D7FC733C0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42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14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23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تكلفة الاقتراض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000" y="1267920"/>
            <a:ext cx="5770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حالات صعوبة ربط تكلفة الاقتراض بالأصل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حدد قيمة تكلفة الاقتراض التى يمكن رسملتها باستخدام معدل للرسملة يحسب على أساس المتوسط المرجح لتكلفة الاقتراض للمنشأة عن القروض القائمة خلال الم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 تستبعد القروض التى تم إبرامها تحديداً بغرض إقتناء أصل بذا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ألا تزيد قيمة تكلفة الاقتراض المرسملة خلال فترة ما عن قيمة تكلفة الاقتراض التى تم تكبدها خلال تلك الفتر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59280" y="620280"/>
            <a:ext cx="2027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بدء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87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عندما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492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أ)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إنفاق على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ب) تكبد المنشأة تكلفة إقتراض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ج) تكون الأنشطة اللازمة لإعداد الأصل للاستخدام فى الأغراض المحددة له أو بيعه للغير محل تنفيذ فى الوقت الحا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لاحظ   ( و )    ليس   ( أو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80000" y="404280"/>
            <a:ext cx="30463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وقف عن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36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توقف عن رسملة تكلفة الاقتراض خلال الفترات التى تتعطل فيها أعمال الإنشاء الفعالة للأص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ا يتم تعليق رسملة تكلفة الاقتراض عندما يكون التوقف المؤقت بمثابة خطوة ضرورية فى عملية إعداد الأصل للاستخدام فى الأغراض المحددة  له أو لبيعه للغير مثل الفترات المطلوبة لنضج المخزو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انتهاء من عملية رسملة تكلفة الاقتراض عندما يتم الانتهاء من كل الأنشطة الجوهرية اللازم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إعداد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أص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ما يتم الانتهاء من إنشاء أجزاء من الأصل و يكون من الممكن استخدام كل جزء من هذه الأجزاء أثناء استمرار عملية إنشاء باقى الأجزاء الأخرى فإنه يتعين التوقف عن رسملة تكلفة الاقتراض على الأجزاء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08720" y="475920"/>
            <a:ext cx="1378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ـــا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51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شركة حصلت على القروض الآت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لتمويل مشروعاتها المتضمنة إنشاء مشروع مدينة سكني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آخ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وقد بلغت المبالغ المنفقة على مشروع المدينة السكن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مبلغ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مطلوب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حديد تكلفة الاقتراض الواجب رسملتها على 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  - تكلفة الاقتراض الخاصة بالقرض الاول المخصص للمشرو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ب – تكلفة الاقتراض الخاصة بالقروض الاخ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ثالث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رابع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كلفة الاقترا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عدل الرسملة = ـ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 المتوسط المرجح للقرو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83664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حــل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4920" y="1599840"/>
            <a:ext cx="806436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 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نصيب المشروع =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ج – تكلفة الاقتراض التى يجب رسملتها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جني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50920" y="907560"/>
            <a:ext cx="224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280" y="2205000"/>
            <a:ext cx="4753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03640" y="278100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تحديد المعالجة المحاسبية لتكلفة الاقتراض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طلب هذا المعيار بشكل عام معالجة تكاليف الاقتراض كمصروفات فور تكبده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سمح كمعالجة بديلة برسملة تكلفة الاقتراض التى ترجع مباشرة إلى اقتناء أو إنشاء أو إنتاج أصل مؤهل لتحمل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443280" y="691920"/>
            <a:ext cx="2243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2565000"/>
            <a:ext cx="345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67280" y="1125360"/>
            <a:ext cx="28195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ثبت تكلفة الاقتراض كمصروفات تحمل على الفترة التى تكبدت فيها المنشأة هذه التكلف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الإفصاح فى القوائم المالية عن السياسة المحاسبية المتبعة لمعالجة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56000" y="270792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رسملة تكلفة الاقتراض المتعلقة مباشرة باقتناء أو إنشاء أو إنتاج الأصل الذى يتطلب بالضرورة فترة زمنية طويلة لتجهيزه للاستخدام فى الأغراض المحددة له أو لبيعه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يتم رسملة تكلفة الاقتراض هذه ضمن تكلفة الأصل عندما يكون متوقعاً أن تتسبب فى خلق منافع اقتصادية مستقبلية للمنشأة وتكون هناك إمكانية لقياس التكلفة بشكل يمكن الاعتماد عليه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95280" y="1196640"/>
            <a:ext cx="4691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تكلفة الإقتراض المؤهلة للرسملة</a:t>
            </a:r>
            <a:r>
              <a:rPr b="1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ى تكلفة الاقتراض التى  كان يمكن تجنبها إذا لم يتم الإنفاق على هذا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طرح من تكلفة الاقتراض المرسملة أى إيراد تحقق من الاستثمار المؤقت للأموال المقترض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خفيض أو استبعاد الزيادة فى القيمة الدفترية للأصل نتيجة الرسملة عن قيمته الإستردادية من القيمة الدفترية للأصل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05:14Z</dcterms:created>
  <dc:creator>Eissa</dc:creator>
  <dc:description/>
  <dc:language>en-US</dc:language>
  <cp:lastModifiedBy>m.farouk</cp:lastModifiedBy>
  <dcterms:modified xsi:type="dcterms:W3CDTF">2006-11-13T09:02:30Z</dcterms:modified>
  <cp:revision>19</cp:revision>
  <dc:subject/>
  <dc:title>معيار المحاسبة المصرى رقم (14) تكلفة الاقتراض</dc:title>
</cp:coreProperties>
</file>